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881880"/>
            <a:ext cx="25272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4674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88188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81880"/>
            <a:ext cx="784872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700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2" marL="13716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3" marL="1714680" indent="-17172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4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5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lvl="6" marL="2000160" indent="-171360">
              <a:spcBef>
                <a:spcPts val="700"/>
              </a:spcBef>
              <a:buClr>
                <a:srgbClr val="ffffff"/>
              </a:buClr>
              <a:buFont typeface="Univer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609480" y="2133720"/>
            <a:ext cx="7848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aramond"/>
              </a:rPr>
              <a:t>Oracle XML D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82160" cy="309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How Oracle XML DB Works: Clien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3" name=""/>
          <p:cNvSpPr/>
          <p:nvPr/>
        </p:nvSpPr>
        <p:spPr>
          <a:xfrm>
            <a:off x="229536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XMLDBArchImage3" descr=""/>
          <p:cNvPicPr/>
          <p:nvPr/>
        </p:nvPicPr>
        <p:blipFill>
          <a:blip r:embed="rId1"/>
          <a:stretch/>
        </p:blipFill>
        <p:spPr>
          <a:xfrm>
            <a:off x="2295360" y="1833480"/>
            <a:ext cx="45532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The XML Repository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XMLDBArchImage4.jpg" descr=""/>
          <p:cNvPicPr/>
          <p:nvPr/>
        </p:nvPicPr>
        <p:blipFill>
          <a:blip r:embed="rId1"/>
          <a:stretch/>
        </p:blipFill>
        <p:spPr>
          <a:xfrm>
            <a:off x="1828800" y="1362240"/>
            <a:ext cx="54864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2BXDB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236000" cy="4754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304920"/>
            <a:ext cx="7924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Building Web Servi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838080" y="2133720"/>
            <a:ext cx="3200400" cy="3962160"/>
            <a:chOff x="838080" y="2133720"/>
            <a:chExt cx="3200400" cy="3962160"/>
          </a:xfrm>
        </p:grpSpPr>
        <p:grpSp>
          <p:nvGrpSpPr>
            <p:cNvPr id="101" name=""/>
            <p:cNvGrpSpPr/>
            <p:nvPr/>
          </p:nvGrpSpPr>
          <p:grpSpPr>
            <a:xfrm>
              <a:off x="1219320" y="2133720"/>
              <a:ext cx="2057400" cy="1218960"/>
              <a:chOff x="1219320" y="2133720"/>
              <a:chExt cx="2057400" cy="1218960"/>
            </a:xfrm>
          </p:grpSpPr>
          <p:sp>
            <p:nvSpPr>
              <p:cNvPr id="102" name=""/>
              <p:cNvSpPr/>
              <p:nvPr/>
            </p:nvSpPr>
            <p:spPr>
              <a:xfrm>
                <a:off x="1219320" y="2133720"/>
                <a:ext cx="1828800" cy="914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imple XML data model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19520" y="2895480"/>
                <a:ext cx="457200" cy="4572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838080" y="3276720"/>
              <a:ext cx="2362320" cy="914400"/>
              <a:chOff x="838080" y="3276720"/>
              <a:chExt cx="2362320" cy="914400"/>
            </a:xfrm>
          </p:grpSpPr>
          <p:sp>
            <p:nvSpPr>
              <p:cNvPr id="105" name=""/>
              <p:cNvSpPr/>
              <p:nvPr/>
            </p:nvSpPr>
            <p:spPr>
              <a:xfrm>
                <a:off x="838080" y="3276720"/>
                <a:ext cx="1828800" cy="914400"/>
              </a:xfrm>
              <a:prstGeom prst="ellipse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XDK based processing;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latively more cod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2590920" y="3352320"/>
                <a:ext cx="609480" cy="2286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066680" y="434340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 Storage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ependen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590920" y="3428640"/>
              <a:ext cx="685800" cy="10666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09680" y="518148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wer scalability f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ML-intensive acce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352680" y="3505320"/>
              <a:ext cx="76320" cy="16761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572000" y="2209680"/>
            <a:ext cx="3809880" cy="3810240"/>
            <a:chOff x="4572000" y="2209680"/>
            <a:chExt cx="3809880" cy="3810240"/>
          </a:xfrm>
        </p:grpSpPr>
        <p:sp>
          <p:nvSpPr>
            <p:cNvPr id="112" name=""/>
            <p:cNvSpPr/>
            <p:nvPr/>
          </p:nvSpPr>
          <p:spPr>
            <a:xfrm>
              <a:off x="4724280" y="220968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 XML Schem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forcem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3048120"/>
              <a:ext cx="91440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320040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DB+XDK bas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cessing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latively less cod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48520" y="3886200"/>
              <a:ext cx="609480" cy="5335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419720"/>
              <a:ext cx="198108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rage Independence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B, DOM-Faithful,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lational Stora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248520" y="3429000"/>
              <a:ext cx="76176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553080" y="4495320"/>
              <a:ext cx="457200" cy="304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3080" y="510552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 scalability f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ML-intensive acces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238880" y="4495680"/>
              <a:ext cx="76320" cy="609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9 Benefits of Project XML DB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XML SQL ‘duality’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7286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QL operations over XML data, XML operations over SQL data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Native support for XML data model 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7286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XML Schema Constraints, other constraints, RI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torage and Structure Independen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Strong data management over XML content vs. file storag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Repository Functionalit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Multiple XML views over relational data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Ease of Presentation and Interchang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7286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Native XSLT, built-in generation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All the API you want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7286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DOM, JNDI, SQL, PL/SQL, Java Beans …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Univers"/>
              </a:rPr>
              <a:t>XML-specific performance and scalability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7286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Lazily materialized DOM, hierarchical index, direct read into buffer cach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72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74720" y="3117960"/>
            <a:ext cx="764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 Condensed"/>
              </a:rPr>
              <a:t>W   A    L    K    T    H    R    O    U    G    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960" y="3936960"/>
            <a:ext cx="76960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Univers"/>
              </a:rPr>
              <a:t>XML DB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82160" cy="309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415296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9880" y="2666880"/>
            <a:ext cx="331488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7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27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182160" cy="3096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49160" y="533520"/>
            <a:ext cx="7670880" cy="4764600"/>
            <a:chOff x="749160" y="533520"/>
            <a:chExt cx="7670880" cy="4764600"/>
          </a:xfrm>
        </p:grpSpPr>
        <p:sp>
          <p:nvSpPr>
            <p:cNvPr id="130" name=""/>
            <p:cNvSpPr/>
            <p:nvPr/>
          </p:nvSpPr>
          <p:spPr>
            <a:xfrm>
              <a:off x="1600200" y="533520"/>
              <a:ext cx="3314880" cy="34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73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700" spc="-1" strike="noStrike">
                  <a:solidFill>
                    <a:srgbClr val="292929"/>
                  </a:solidFill>
                  <a:latin typeface="Times New Roman"/>
                </a:rPr>
                <a:t>Q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14560" y="1828800"/>
              <a:ext cx="3314880" cy="34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73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700" spc="-1" strike="noStrike">
                  <a:solidFill>
                    <a:srgbClr val="fd0000"/>
                  </a:solidFill>
                  <a:latin typeface="Times New Roman"/>
                </a:rPr>
                <a:t>&amp;</a:t>
              </a:r>
              <a:endParaRPr b="0" lang="en-US" sz="27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4720" y="2803680"/>
              <a:ext cx="7645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Univers Condensed"/>
                </a:rPr>
                <a:t>Q  U  E  S  T  I  O  N  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9160" y="3429000"/>
              <a:ext cx="76456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Univers Condensed"/>
                </a:rPr>
                <a:t>A  N  S  W  E  R  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y XML in the Database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2012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"/>
              </a:rPr>
              <a:t>Enforce and leverage the XML data model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Loosely coupled, flexible applicatio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XML Schema, DOM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"/>
              </a:rPr>
              <a:t>Enable richer semantics and better management for content-oriented application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tore as XML vs. Files or LOB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Queryability, Integrity, RAS etc.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25800" indent="-32580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"/>
              </a:rPr>
              <a:t>Process XML close to data for high scalability and performance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Generation, Transformation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23040" indent="-32580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Superior memory management for large XML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Why XML in the Database (Contd.)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"/>
              </a:rPr>
              <a:t>Reduce maintenance costs of extra moving parts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liminate separate ‘XML-processing’ layer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Univers"/>
              </a:rPr>
              <a:t>Keep applications standards-based</a:t>
            </a:r>
            <a:endParaRPr b="0" lang="en-US" sz="24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W3C, IETF, ANSI/ISO, J2EE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  <a:p>
            <a:pPr lvl="1" marL="971640" indent="-343080">
              <a:spcBef>
                <a:spcPts val="49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Univers"/>
              </a:rPr>
              <a:t>Eliminate proprietary file formats, message formats, delimited columns</a:t>
            </a:r>
            <a:endParaRPr b="0" lang="en-US" sz="20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1961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Evolution of Oracle XML Support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971800"/>
            <a:ext cx="7467480" cy="0"/>
          </a:xfrm>
          <a:prstGeom prst="line">
            <a:avLst/>
          </a:prstGeom>
          <a:ln w="76320">
            <a:solidFill>
              <a:srgbClr val="fd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981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4640" y="1981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000"/>
                </a:solidFill>
                <a:latin typeface="Arial"/>
              </a:rPr>
              <a:t>8</a:t>
            </a:r>
            <a:r>
              <a:rPr b="0" i="1" lang="en-US" sz="2800" spc="-1" strike="noStrike">
                <a:solidFill>
                  <a:srgbClr val="fd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4680" y="19810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fd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fd0000"/>
                </a:solidFill>
                <a:latin typeface="Arial"/>
              </a:rPr>
              <a:t>R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36480" y="19810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0000"/>
                </a:solidFill>
                <a:latin typeface="Arial"/>
              </a:rPr>
              <a:t>9</a:t>
            </a:r>
            <a:r>
              <a:rPr b="0" i="1" lang="en-US" sz="2800" spc="-1" strike="noStrike">
                <a:solidFill>
                  <a:srgbClr val="fd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d0000"/>
                </a:solidFill>
                <a:latin typeface="Arial"/>
              </a:rPr>
              <a:t> R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080" y="333864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asic XML Generation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sing (mid-tier bas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veloper K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3880" y="3352680"/>
            <a:ext cx="251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B-integrated XML Stor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d Retriev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51760" y="335268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tive XML D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1447560" cy="228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1447920" cy="2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1447920" cy="228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371600" y="2514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2514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0" y="25146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7696080" cy="5251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17604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Common XML Architectures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72000" y="2590920"/>
            <a:ext cx="2057400" cy="1218960"/>
            <a:chOff x="4572000" y="2590920"/>
            <a:chExt cx="2057400" cy="1218960"/>
          </a:xfrm>
        </p:grpSpPr>
        <p:sp>
          <p:nvSpPr>
            <p:cNvPr id="63" name=""/>
            <p:cNvSpPr/>
            <p:nvPr/>
          </p:nvSpPr>
          <p:spPr>
            <a:xfrm>
              <a:off x="4572000" y="259092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force XML Schem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72200" y="3352680"/>
              <a:ext cx="45720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62520" y="3581280"/>
            <a:ext cx="2666880" cy="914400"/>
            <a:chOff x="3962520" y="3581280"/>
            <a:chExt cx="2666880" cy="914400"/>
          </a:xfrm>
        </p:grpSpPr>
        <p:sp>
          <p:nvSpPr>
            <p:cNvPr id="66" name=""/>
            <p:cNvSpPr/>
            <p:nvPr/>
          </p:nvSpPr>
          <p:spPr>
            <a:xfrm>
              <a:off x="3962520" y="358128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nage Content &amp;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niforml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91320" y="4038480"/>
              <a:ext cx="838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572000" y="4343400"/>
            <a:ext cx="2057400" cy="1143000"/>
            <a:chOff x="4572000" y="4343400"/>
            <a:chExt cx="2057400" cy="1143000"/>
          </a:xfrm>
        </p:grpSpPr>
        <p:sp>
          <p:nvSpPr>
            <p:cNvPr id="69" name=""/>
            <p:cNvSpPr/>
            <p:nvPr/>
          </p:nvSpPr>
          <p:spPr>
            <a:xfrm>
              <a:off x="4572000" y="457200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iminate extra mov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172200" y="4343400"/>
              <a:ext cx="457200" cy="457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238880" y="2514600"/>
            <a:ext cx="1828800" cy="1143000"/>
            <a:chOff x="7238880" y="2514600"/>
            <a:chExt cx="1828800" cy="1143000"/>
          </a:xfrm>
        </p:grpSpPr>
        <p:sp>
          <p:nvSpPr>
            <p:cNvPr id="72" name=""/>
            <p:cNvSpPr/>
            <p:nvPr/>
          </p:nvSpPr>
          <p:spPr>
            <a:xfrm>
              <a:off x="7238880" y="251460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et better performan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amp; scalabilit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391520" y="3352680"/>
              <a:ext cx="304560" cy="304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315200" y="4419360"/>
            <a:ext cx="1835640" cy="1067040"/>
            <a:chOff x="7315200" y="4419360"/>
            <a:chExt cx="1835640" cy="1067040"/>
          </a:xfrm>
        </p:grpSpPr>
        <p:sp>
          <p:nvSpPr>
            <p:cNvPr id="75" name=""/>
            <p:cNvSpPr/>
            <p:nvPr/>
          </p:nvSpPr>
          <p:spPr>
            <a:xfrm>
              <a:off x="7315200" y="4572000"/>
              <a:ext cx="1828800" cy="9144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543440" y="4419360"/>
              <a:ext cx="304920" cy="22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91160" y="4800600"/>
              <a:ext cx="175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ke DB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s-bas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82880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Oracle9iR2: XML DB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848720" cy="40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Univers"/>
              </a:rPr>
              <a:t>Enhanced XMLType</a:t>
            </a:r>
            <a:endParaRPr b="0" lang="en-US" sz="16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MLSchema Support 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Object-Relational Storage Maintaining DOM fidelity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ML-specific memory mgmt for better scalability and performance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2" marL="1248120" indent="-2077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Univers"/>
              </a:rPr>
              <a:t>Lazily loaded virtual DOM</a:t>
            </a:r>
            <a:endParaRPr b="0" lang="en-US" sz="1500" spc="-1" strike="noStrike">
              <a:solidFill>
                <a:srgbClr val="ffffff"/>
              </a:solidFill>
              <a:latin typeface="Univers"/>
            </a:endParaRPr>
          </a:p>
          <a:p>
            <a:pPr lvl="2" marL="1248120" indent="-2077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Univers"/>
              </a:rPr>
              <a:t>Schema caching</a:t>
            </a:r>
            <a:endParaRPr b="0" lang="en-US" sz="15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Built-in XML operators for SQL/XML interchangability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2" marL="1248120" indent="-2077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Univers"/>
              </a:rPr>
              <a:t>E.g. XMLTABLE (to cast a list of nodes returned by XPath into a table), </a:t>
            </a:r>
            <a:endParaRPr b="0" lang="en-US" sz="15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Path Search in the server, and piecewise update of XML via XPath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XSL Transforms in the server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Enhanced XML Views for creating your own efficient representations of XML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Rich programming model: client side JDBC and Java Beans support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Univers"/>
              </a:rPr>
              <a:t>New XML Repository</a:t>
            </a:r>
            <a:endParaRPr b="0" lang="en-US" sz="16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FTP, WebDAV, HTTP protocol servers to move XML content in and out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‘</a:t>
            </a: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Foldering’ and Repository view over XML Content including access control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2" marL="1248120" indent="-20772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Univers"/>
              </a:rPr>
              <a:t>Hierarchical Index for best folder-traversal performance</a:t>
            </a:r>
            <a:endParaRPr b="0" lang="en-US" sz="15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Versioning support for Repository resources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-3121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75000"/>
              <a:buFont typeface="Univer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Univers"/>
              </a:rPr>
              <a:t>SQL Repository Search</a:t>
            </a: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  <a:p>
            <a:pPr lvl="1" marL="884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Univer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XML DB Architecture: Content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04520" y="141732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Image2" descr=""/>
          <p:cNvPicPr/>
          <p:nvPr/>
        </p:nvPicPr>
        <p:blipFill>
          <a:blip r:embed="rId1"/>
          <a:stretch/>
        </p:blipFill>
        <p:spPr>
          <a:xfrm>
            <a:off x="838080" y="968400"/>
            <a:ext cx="70866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344160"/>
            <a:ext cx="8077320" cy="7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XML DB Architecture: Data 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4520" y="1417320"/>
            <a:ext cx="82263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Image5" descr=""/>
          <p:cNvPicPr/>
          <p:nvPr/>
        </p:nvPicPr>
        <p:blipFill>
          <a:blip r:embed="rId1"/>
          <a:stretch/>
        </p:blipFill>
        <p:spPr>
          <a:xfrm>
            <a:off x="1295280" y="1022400"/>
            <a:ext cx="716292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54160"/>
                <a:tab algn="l" pos="2308320"/>
                <a:tab algn="l" pos="3462480"/>
                <a:tab algn="l" pos="4616280"/>
                <a:tab algn="l" pos="5770440"/>
                <a:tab algn="l" pos="6924600"/>
                <a:tab algn="l" pos="8078760"/>
                <a:tab algn="l" pos="9232920"/>
                <a:tab algn="l" pos="103870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Univers"/>
              </a:rPr>
              <a:t>How Oracle XML DB Works: Server</a:t>
            </a:r>
            <a:endParaRPr b="1" lang="en-US" sz="4000" spc="-1" strike="noStrike">
              <a:solidFill>
                <a:srgbClr val="ffffff"/>
              </a:solidFill>
              <a:latin typeface="Univers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XMLDBArchImage2" descr=""/>
          <p:cNvPicPr/>
          <p:nvPr/>
        </p:nvPicPr>
        <p:blipFill>
          <a:blip r:embed="rId1"/>
          <a:stretch/>
        </p:blipFill>
        <p:spPr>
          <a:xfrm>
            <a:off x="1828800" y="1390680"/>
            <a:ext cx="5486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sabanerj</cp:lastModifiedBy>
  <dcterms:modified xsi:type="dcterms:W3CDTF">2002-04-30T03:02:36Z</dcterms:modified>
  <cp:revision>220</cp:revision>
  <dc:subject/>
  <dc:title>Jerry Held</dc:title>
</cp:coreProperties>
</file>